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8487-4CE7-457E-970A-7760FA903ED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94FF-BF14-49A8-8DD7-060833E76F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98D-6453-48E4-95E2-096397F4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0EB-571C-433A-A3F1-D332EB7C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A63-017B-4949-A08E-D9E3DA27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2E5-1585-43DD-B95F-F68F523E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400-B0CA-4772-8622-65A6B097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434-C38D-4B9E-AC90-4E11C7A4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992-05EF-4124-8C61-797AEEFE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454-4175-4F17-B59C-7D95341E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189-77EC-43BA-BE4E-239E4AC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319-F8BD-48B3-8888-96FE78D3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BA4A-7608-4CE4-AB6C-7C0C862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F3E4-9CAF-4655-897F-826FD7AA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5CE7-245F-4FDC-844C-E2D9F921BDF8}" type="slidenum">
              <a:rPr b="0" lang="fr-B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hyperlink" Target="mailto:sian.jones@eapn.eu" TargetMode="External"/><Relationship Id="rId4" Type="http://schemas.openxmlformats.org/officeDocument/2006/relationships/hyperlink" Target="http://www.eapn.e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55736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6"/>
          <p:cNvSpPr/>
          <p:nvPr/>
        </p:nvSpPr>
        <p:spPr>
          <a:xfrm>
            <a:off x="-9360" y="0"/>
            <a:ext cx="9153360" cy="1557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minario Europeo Inclusión en el Medio R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EAPN-ES &amp; EAPN Castilla y Le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6 de marzo de 2017, Valladol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8"/>
          <p:cNvSpPr/>
          <p:nvPr/>
        </p:nvSpPr>
        <p:spPr>
          <a:xfrm>
            <a:off x="647640" y="2781360"/>
            <a:ext cx="784872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0000"/>
                </a:solidFill>
                <a:latin typeface="Calibri"/>
                <a:ea typeface="Arial"/>
              </a:rPr>
              <a:t>Perspectiva Europea: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000000"/>
                </a:solidFill>
                <a:latin typeface="Calibri"/>
                <a:ea typeface="Arial"/>
              </a:rPr>
              <a:t>Pobreza Rural y Exclusión Socia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Sian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EAPN Policy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6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Cuáles son los principales desafíos a los q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 enfrentan las áreas rur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8"/>
          <p:cNvSpPr/>
          <p:nvPr/>
        </p:nvSpPr>
        <p:spPr>
          <a:xfrm>
            <a:off x="250920" y="1268280"/>
            <a:ext cx="8893080" cy="54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ambios demográ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Población en declive y envejecida. 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Las mujeres a menudo se desplazan a las zonas urbanas para trabajar, especialmente en los países mediterráneos, lo que también provoca bajos índices de natalida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Dificultad para </a:t>
            </a:r>
            <a:r>
              <a:rPr b="1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mantener los servicios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, particularmente salud, cuidado, transporte, educació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Mercado de trabajo en declive y de poca c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Reducción de las </a:t>
            </a:r>
            <a:r>
              <a:rPr b="1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oportunidades de empleo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, excesiva dependencia de la disminución de los empleos agroindustrial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Aumento del desempleo 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(6,5 millones  de personas en las zonas rurales de  la UE en 2012) y empleos de baja calidad: trabajos estacionales de baja remuneración, trabajo temporal y también trabajo no declarad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Baja educación y baja autoes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Menores tasas de participación en </a:t>
            </a:r>
            <a:r>
              <a:rPr b="1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educación preescolar y educación forma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Gran tasa </a:t>
            </a:r>
            <a:r>
              <a:rPr b="1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de abandono escolar</a:t>
            </a:r>
            <a:r>
              <a:rPr b="0" i="1" lang="es-ES" sz="1700" spc="-1" strike="noStrike">
                <a:solidFill>
                  <a:srgbClr val="000000"/>
                </a:solidFill>
                <a:latin typeface="Calibri"/>
                <a:ea typeface="Arial"/>
              </a:rPr>
              <a:t>, especialmente para los hombres, por ejemplo, Bulgaria y Rumanía (30%), España y Portugal  20% y 26%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068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6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Cuáles son los principales desafíos a los q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e enfrentan las áreas rur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8"/>
          <p:cNvSpPr/>
          <p:nvPr/>
        </p:nvSpPr>
        <p:spPr>
          <a:xfrm>
            <a:off x="250920" y="1197000"/>
            <a:ext cx="889308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Bajo acceso a servicios de ca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aja densidad de población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, es decir, el 12,2% de las dificultades de la población rural  están relacionadas con el transpor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Barreras a la salud/asistencia social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: menos infraestructura, distancia, baja calidad, escasez de trabajadores en sanidad, falta de seguro médico, mala educación en salu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Vivienda de escasa calidad y poca oferta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: peores condiciones y privaciones más elevadas -en general, peor para jóvenes, desempleados, trabajadores poco cualificados / con pocos ingres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rotección Social Limitada e Ingresos Míni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Aspecto a menudo pasado por alto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, a pesar de un mayor desempleo e inactividad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alta de igualdad en los accesos a los recursos: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con algunas regiones más pobres que tienen los niveles más bajos y variaciones locales. Subsidios agrícolas, por ejemplo en España, el Plan de Fomento del Empleo Agrario (PFEA) -antiguo 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Fundamento clave </a:t>
            </a:r>
            <a:r>
              <a:rPr b="0" i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ara que las personas puedan participar en el mercado de trabajo y en la socie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0" y="0"/>
            <a:ext cx="914400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Pueden ayudar los instrument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olíticos de la U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8"/>
          <p:cNvSpPr/>
          <p:nvPr/>
        </p:nvSpPr>
        <p:spPr>
          <a:xfrm>
            <a:off x="0" y="1268280"/>
            <a:ext cx="9174240" cy="56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olítica social de la UE: no se centra específicamente en la pobreza rural frente a la urban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. Por ahora solo se han desarrollado los datos espaciales y los niveles NUTS más bajos. Pobreza urbana no ru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Se establecen los principales instrumentos de política, por ejemplo, la Estrategia Europa 2020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, se establecen objetivos e indicadores para el riesgo de pobreza y exclusión social en su conju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Sin embargo, la mayor repercusión de los objetivos y metas de Europa 2020 es en TODOS los ámbitos polític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, por ejemplo, la financiación de la UE, el Fondo Social Europeo (FSE), el FEDER y el FEA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 política de desarrollo rural de la UE (2014-2020) incluye promover la inclusión socia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y la reducción de la pobreza como una de las seis prioridad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Principalmente centrado en  Diversificación/creación de empleo; Desarrollo local; Tecnologías de la información; Servicios básicos; Renovación y LEA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 Red Europea de Desarrollo Rural (REDR)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tiene la inclusión social como tema clave de trabajo: 2014-2020, talleres / buenas práctic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 Comisión dice que el 15% de los PDR han sido utilizados para la inclusión social, reducción de la pobrez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4444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6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Cuál es el enfoque de la EAP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8"/>
          <p:cNvSpPr/>
          <p:nvPr/>
        </p:nvSpPr>
        <p:spPr>
          <a:xfrm>
            <a:off x="285840" y="1428840"/>
            <a:ext cx="885816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Calibri"/>
                <a:ea typeface="Arial"/>
              </a:rPr>
              <a:t>Nuestro punto de partida es la necesidad de desarrollar soluciones que involucren a las personas en situación de pobreza de las áreas rurales, no sólo con "datos"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Calibri"/>
                <a:ea typeface="Arial"/>
              </a:rPr>
              <a:t>Es importante distinguir entre los desafíos de las zonas rurales y las personas en situación de pobreza en las zonas rur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Calibri"/>
                <a:ea typeface="Arial"/>
              </a:rPr>
              <a:t>La pobreza es principalmente una cuestión estructural no espacial (Tovey 2009). ¿Distribución/redistribución vinculada a la creciente desigualdad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Calibri"/>
                <a:ea typeface="Arial"/>
              </a:rPr>
              <a:t>Causas de la pobreza: falta de acceso a los derechos, recursos y servicios. Importancia fundamental de la política social: protección social y servicios (EC / Thomas Bender 2009) y la estrategia económica inclusiv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Calibri"/>
                <a:ea typeface="Arial"/>
              </a:rPr>
              <a:t>¿Cómo incorporar este enfoque en las zonas rurales? ¿Y utilizar los fondos de la UE?</a:t>
            </a:r>
            <a:r>
              <a:rPr b="1" i="1" lang="fr-BE" sz="2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6"/>
          <p:cNvSpPr/>
          <p:nvPr/>
        </p:nvSpPr>
        <p:spPr>
          <a:xfrm>
            <a:off x="0" y="0"/>
            <a:ext cx="9144000" cy="1120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Algunos pasos hacia dela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8"/>
          <p:cNvSpPr/>
          <p:nvPr/>
        </p:nvSpPr>
        <p:spPr>
          <a:xfrm>
            <a:off x="285840" y="1428840"/>
            <a:ext cx="885816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Un enfoque integrado, de abajo arriba, participativo que aborde la pobreza y a las personas en situación de pobreza de las áreas rural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Necesidad de combinar los cambios estructurales con los mecanismos de distribución/redistribución (nacional, regional y local) con las iniciativas local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Estrategia integrada de lucha contra la pobreza basada en los derechos: acceso a empleos de calidad, servicios e ingresos mínimos/protección soci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Los retos de las áreas rurales deberían apoyarse en el Desarrollo local impulsado por la comunidad (CLLD), invirtiendo en nuevos empleos, servicios y recurso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Utilizar los fondos de la UE (ESIF) para apoyar un enfoque integrado. La participación es clave: potenciar el cambio, definir los desafíos, proponer solucion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6"/>
          <p:cNvSpPr/>
          <p:nvPr/>
        </p:nvSpPr>
        <p:spPr>
          <a:xfrm>
            <a:off x="0" y="0"/>
            <a:ext cx="914400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ra más inform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523800" y="1611360"/>
            <a:ext cx="83152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400" spc="-1" strike="noStrike">
                <a:solidFill>
                  <a:srgbClr val="0000ff"/>
                </a:solidFill>
                <a:latin typeface="Calibri"/>
                <a:ea typeface="Arial"/>
              </a:rPr>
              <a:t>CONTA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Sian Jones, EAPN Policy 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-mail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Calibri"/>
                <a:ea typeface="Arial"/>
                <a:hlinkClick r:id="rId3"/>
              </a:rPr>
              <a:t>sian.jones@eapn.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Dirección: Boulevard Bischoffscheim 11, 1000 Bru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Página web: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Calibri"/>
                <a:ea typeface="Arial"/>
                <a:hlinkClick r:id="rId4"/>
              </a:rPr>
              <a:t>www.eapn.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6"/>
          <p:cNvSpPr/>
          <p:nvPr/>
        </p:nvSpPr>
        <p:spPr>
          <a:xfrm>
            <a:off x="0" y="0"/>
            <a:ext cx="914400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Arial"/>
              </a:rPr>
              <a:t>Perspectiva Europe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Arial"/>
              </a:rPr>
              <a:t>Pobreza Rural y Exclusión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8"/>
          <p:cNvSpPr/>
          <p:nvPr/>
        </p:nvSpPr>
        <p:spPr>
          <a:xfrm>
            <a:off x="539640" y="162864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70c0"/>
                </a:solidFill>
                <a:latin typeface="Calibri"/>
                <a:ea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ción sobre la EAP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Pobreza Rural – Visión general de la UE: datos e instrumentos polít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Principales problemas y desafí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Arial"/>
              </a:rPr>
              <a:t>El enfoque de la EAPN y el camino a segu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20520" y="1152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6"/>
          <p:cNvSpPr/>
          <p:nvPr/>
        </p:nvSpPr>
        <p:spPr>
          <a:xfrm>
            <a:off x="-17640" y="0"/>
            <a:ext cx="918216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alibri"/>
                <a:ea typeface="Arial"/>
              </a:rPr>
              <a:t>Introducción</a:t>
            </a:r>
            <a:r>
              <a:rPr b="1" i="1" lang="fr-BE" sz="3200" spc="-1" strike="noStrike">
                <a:solidFill>
                  <a:srgbClr val="ffffff"/>
                </a:solidFill>
                <a:latin typeface="Calibri"/>
                <a:ea typeface="Arial"/>
              </a:rPr>
              <a:t> sobre la EAP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8"/>
          <p:cNvSpPr/>
          <p:nvPr/>
        </p:nvSpPr>
        <p:spPr>
          <a:xfrm>
            <a:off x="539640" y="162864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Red independiente de ONG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mprometidas con la lucha contra la pobreza + exclusión social, con personas en situación de pobrez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Se fundó en 1990 -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ctor clav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n programas de pobreza y desarrollo del MAC Soc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Recibe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poyo financier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 la Comisión Europea (PROGRESS / actualmente EaS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31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redes nacionale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y 16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ONG europea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mo miembros (Más de 10.000 organizacion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participación de las personas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 experiencia directa de la pobreza debe ser parte de la solu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erradicación de la pobreza es posible - ¡ES UNA DECISIÓN POLÍTICA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2286000" y="1859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20520" y="1152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6"/>
          <p:cNvSpPr/>
          <p:nvPr/>
        </p:nvSpPr>
        <p:spPr>
          <a:xfrm>
            <a:off x="0" y="0"/>
            <a:ext cx="914400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alibri"/>
                <a:ea typeface="Arial"/>
              </a:rPr>
              <a:t>El enfoque de la EAPN hacia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Calibri"/>
                <a:ea typeface="Arial"/>
              </a:rPr>
              <a:t>(urbana/rur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"/>
          <p:cNvSpPr/>
          <p:nvPr/>
        </p:nvSpPr>
        <p:spPr>
          <a:xfrm>
            <a:off x="539640" y="1628640"/>
            <a:ext cx="7848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pobreza es un problema estructural no individual     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¡No culpes a las personas en situación de pobrez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Hay que apoyar a las personas mediante una estrategia integrada de lucha contra la pobr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Ingresos adecuados durante toda la vida – ingresos mínimos y protección so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Servicios públicos accesibles y asequi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Empleos inclusivos y de cal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Financiado a través de la justicia tributa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La Participación es un requisito previo para el acceso a otros derech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No se puede resolver la pobreza sin reducir la desigualdad  </a:t>
            </a:r>
            <a:r>
              <a:rPr b="0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Impuestos más justos para financiar estados de bienestar universales y reducir la brecha de ingresos y riquez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20520" y="1152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6"/>
          <p:cNvSpPr/>
          <p:nvPr/>
        </p:nvSpPr>
        <p:spPr>
          <a:xfrm>
            <a:off x="0" y="-23760"/>
            <a:ext cx="9144000" cy="1168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ffff"/>
                </a:solidFill>
                <a:latin typeface="Calibri"/>
                <a:ea typeface="Arial"/>
              </a:rPr>
              <a:t>Definiciones de pobreza y exclusión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539640" y="1628640"/>
            <a:ext cx="784872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obr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Absoluta o extrema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, es decir, un umbral fijo de pobreza, es decir, euros por día (enfoque estadounid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Pobreza relativa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, es decir, capacidad para participar en la sociedad en igualdad de condiciones (enfoque de la U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nclusión/Exclusión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"Un proceso por el cual los individuos son empujados al borde de la sociedad y se les impide participar debido a la pobreza, o a las oportunidades, a la discriminación, etc." (Joint Report 200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obreza y/o exclusión social en la UE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basada en la mezcla de 3 indicado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En riesgo de pobreza (60% de la mediana del ingreso disponible de los hogar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Grave privación material (5 de 9 indicador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Baja intensidad de trabajo (% de desempleados en el hoga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2286000" y="185904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6"/>
          <p:cNvSpPr/>
          <p:nvPr/>
        </p:nvSpPr>
        <p:spPr>
          <a:xfrm>
            <a:off x="0" y="0"/>
            <a:ext cx="914400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Que está pasando a la pobreza en Europ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8"/>
          <p:cNvSpPr/>
          <p:nvPr/>
        </p:nvSpPr>
        <p:spPr>
          <a:xfrm>
            <a:off x="285840" y="1428840"/>
            <a:ext cx="88581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Hay 119 millones de personas en situación de pobreza y exclusión social en la UE (23%), con 1 de cada 4 niños en situación de pobreza (Eurostat, octubre de 2016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os niños corren mayor riesgo que los adultos -27,8% comparado con un 25,4% de los adultos- y las mujeres más que los hombres (25,3% frente al 23,6%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Diferencias importantes en toda la UE: el dato peor 51,5% se registra en BG, RU, HU, LV, en comparación con menos del 20% en FI, DK, SE, CZ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No todas las personas se enfrentan al mismo riesgo, por ejemplo los colectivos expuestos son: los padres solteros (48,3%); las familias numerosas (27,1%), los hijos de migrantes y los miembros de la comunidad gitana (80%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Estar desempleado es un riesgo, pero el empleo no representa una herramienta automática para salir de la pobreza: el 9,5% de los trabajadores están en pobreza laboral y 2/3 de las familias pobres en el Reino Unido trabaj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 protección social es esencial para reducir la pobreza (26,1% a 17,2%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Arial"/>
              </a:rPr>
              <a:t>La austeridad ha golpeado especialmente a los niños - recortes en las prestaciones complementarias, a las prestaciones por hijos, recortes en los servicios y aumento de los cos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6"/>
          <p:cNvSpPr/>
          <p:nvPr/>
        </p:nvSpPr>
        <p:spPr>
          <a:xfrm>
            <a:off x="0" y="0"/>
            <a:ext cx="9144000" cy="1144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Y, ¿qué pasa con la pobreza rura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8"/>
          <p:cNvSpPr/>
          <p:nvPr/>
        </p:nvSpPr>
        <p:spPr>
          <a:xfrm>
            <a:off x="285840" y="1428840"/>
            <a:ext cx="885816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Más pobreza rural que urbana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: 27.2% en contexto rural - 24.3% en áreas urbanas (Eurostat 2014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Grandes diferencias de pobreza en toda la UE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: mayores tasas de pobreza en Bulgaria y Rumanía (más del 50%), MT, EL, LV y HU (36,5%); En comparación con AT (14,1%), DK, CZ y NL (15,5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Gran riesgo de pobreza rural donde las poblaciones rurales son mayores, es decir, la población rural está en mayor riesgo en 17 países,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es verdad que cuanto más pequeña sea la población rural, será mayor la pobreza urbana que la pobreza rural (AT, DK, N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Los niveles de pobreza son más elevados en las zonas remotas y escasamente pobladas,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en particular en los Estados del Sur y Este de Europa, donde la pobreza se asocia con el aislamiento rur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6"/>
          <p:cNvSpPr/>
          <p:nvPr/>
        </p:nvSpPr>
        <p:spPr>
          <a:xfrm>
            <a:off x="0" y="-58680"/>
            <a:ext cx="9144000" cy="1203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rincipales desafíos en las zonas ru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8"/>
          <p:cNvSpPr/>
          <p:nvPr/>
        </p:nvSpPr>
        <p:spPr>
          <a:xfrm>
            <a:off x="285840" y="1236600"/>
            <a:ext cx="885816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  <a:ea typeface="Arial"/>
              </a:rPr>
              <a:t>Se han identificado 4 retos principales: </a:t>
            </a:r>
            <a:r>
              <a:rPr b="0" i="1" lang="fr-BE" sz="1600" spc="-1" strike="noStrike">
                <a:solidFill>
                  <a:srgbClr val="000000"/>
                </a:solidFill>
                <a:latin typeface="Calibri"/>
                <a:ea typeface="Arial"/>
              </a:rPr>
              <a:t>EU report: Poverty and Social Exclusion in Rural Areas (200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Demografía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(éxodo y envejecimiento de la població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islamiento/Lejaní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falta de infraestructura y servicios básic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ducación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falta de educación preescolar y acceso a educación primaria y secundar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Mercados de trabajo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(tasas de empleo más bajas, desempleo de largo plazo persistente y trabajadores temp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Pero falta de protección social y escasas ayudas económica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cia de distinguir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entre</a:t>
            </a:r>
            <a:r>
              <a:rPr b="1" i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la pobreza de las zonas rurales y las personas que viven en situación de pobreza en las zonas ru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Option 2 (2)"/>
          <p:cNvPicPr/>
          <p:nvPr/>
        </p:nvPicPr>
        <p:blipFill>
          <a:blip r:embed="rId1"/>
          <a:srcRect l="0" t="0" r="0" b="42979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6"/>
          <p:cNvSpPr/>
          <p:nvPr/>
        </p:nvSpPr>
        <p:spPr>
          <a:xfrm>
            <a:off x="0" y="-58680"/>
            <a:ext cx="9144000" cy="1203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¿Qué grup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2" descr="logo-eapn"/>
          <p:cNvPicPr/>
          <p:nvPr/>
        </p:nvPicPr>
        <p:blipFill>
          <a:blip r:embed="rId2"/>
          <a:stretch/>
        </p:blipFill>
        <p:spPr>
          <a:xfrm>
            <a:off x="7467480" y="228600"/>
            <a:ext cx="1371600" cy="915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8"/>
          <p:cNvSpPr/>
          <p:nvPr/>
        </p:nvSpPr>
        <p:spPr>
          <a:xfrm>
            <a:off x="285840" y="1428840"/>
            <a:ext cx="8858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285840" y="1201680"/>
            <a:ext cx="857088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alibri"/>
                <a:ea typeface="Arial"/>
              </a:rPr>
              <a:t>Exclusión social y desventaja múlti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Las mujeres, las familias monoparentales y los jóvenes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, especialmente en relación con el acceso a puestos de trabajo de calidad y protección social, pero también al cuidado de los niños, la vivienda, la salud, la educación y otros servici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Las personas mayores y las personas con discapacidad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, en relación con el acceso a la atención de la salud, el transporte adecuado, así como el empleo y la formació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Migrantes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: a menudo atraídos por empleos temporales, precarios y estacionales de bajos salarios, se enfrentan a retos para acceder a educación de calidad, salud y otros servicio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Actualmente la UE se enfrenta a la crisis de los refugiados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. Reubicación de migrantes en zonas rurales como respuesta a crisis demográficas, por ejemplo en Sueci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88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r>
              <a:rPr b="1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Comunidad Gitana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: estudio reciente de la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gencia de los Derechos Fundamentales (</a:t>
            </a:r>
            <a:r>
              <a:rPr b="0" lang="es-ES" sz="1900" spc="-1" strike="noStrike">
                <a:solidFill>
                  <a:srgbClr val="000000"/>
                </a:solidFill>
                <a:latin typeface="Calibri"/>
                <a:ea typeface="Arial"/>
              </a:rPr>
              <a:t>FRA), 90% de gitanos en situación de pobreza, sufren  exclusión en la educación, el mercado de trabajo, la atención sanitaria y la viviend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2:53:24Z</dcterms:created>
  <dc:creator>leticia</dc:creator>
  <dc:description/>
  <dc:language>en-US</dc:language>
  <cp:lastModifiedBy>Usuario</cp:lastModifiedBy>
  <cp:lastPrinted>2015-04-20T12:14:12Z</cp:lastPrinted>
  <dcterms:modified xsi:type="dcterms:W3CDTF">2017-03-14T13:00:24Z</dcterms:modified>
  <cp:revision>235</cp:revision>
  <dc:subject/>
  <dc:title>Slide 1</dc:title>
</cp:coreProperties>
</file>