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E99-4FA1-4A9F-9875-04081747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265-F4D5-4EEB-AE25-033A04A8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D1D-B3BB-4EAC-BB22-D270CEBB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D59-0A23-4139-8B32-6FEC668C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B97-EF4D-47A3-9C9F-E55B877C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0752-6CAC-4F72-9DD7-4282D69E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007-65A0-493B-BD12-A2C23965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E6DA-0FF3-46E4-B1B7-C98C5AA4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BB0-9BAA-46E2-8836-F14E675A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56C-D1CE-49C5-9ACB-E4FB6853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50D-2755-46C0-9DB7-6272EB5D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2CC4-ADDB-4BE0-A931-E13E1856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787-AA9E-4964-8E6A-F7250C4B6CAD}" type="slidenum">
              <a:rPr b="0" lang="fr-B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hyperlink" Target="mailto:sian.jones@eapn.eu" TargetMode="External"/><Relationship Id="rId4" Type="http://schemas.openxmlformats.org/officeDocument/2006/relationships/hyperlink" Target="http://www.eapn.eu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6"/>
          <p:cNvSpPr/>
          <p:nvPr/>
        </p:nvSpPr>
        <p:spPr>
          <a:xfrm>
            <a:off x="0" y="14400"/>
            <a:ext cx="9144000" cy="1344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APN ES and Castilla/Leon – Rural I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16 March 2017, Valladol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8"/>
          <p:cNvSpPr/>
          <p:nvPr/>
        </p:nvSpPr>
        <p:spPr>
          <a:xfrm>
            <a:off x="647640" y="2781360"/>
            <a:ext cx="78487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EU Perspective: Rural Poverty and Social Ex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Sian J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Calibri"/>
                <a:ea typeface="Arial"/>
              </a:rPr>
              <a:t>EAPN Policy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6"/>
          <p:cNvSpPr/>
          <p:nvPr/>
        </p:nvSpPr>
        <p:spPr>
          <a:xfrm>
            <a:off x="0" y="-225360"/>
            <a:ext cx="9144000" cy="1346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are the key challenges facing rural are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2" descr="logo-eapn"/>
          <p:cNvPicPr/>
          <p:nvPr/>
        </p:nvPicPr>
        <p:blipFill>
          <a:blip r:embed="rId1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8"/>
          <p:cNvSpPr/>
          <p:nvPr/>
        </p:nvSpPr>
        <p:spPr>
          <a:xfrm>
            <a:off x="285840" y="1428840"/>
            <a:ext cx="885816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Demographic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Declining and ageing population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. Women leave more often to urban areas for work, especially Mediterranean countries, leads also to low birth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Difficult to </a:t>
            </a: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maintain services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, particularly health/care/transport, education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Declining and low quality labour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Reducing </a:t>
            </a: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employment opportunities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, overdependence on declining agri-jo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Increased unemployment 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(6.5 million UE in rural areas 2012) and low quality jobs: low paid seasonal, temporary work also undeclared 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Poor education and low self este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Lower participation rates in </a:t>
            </a: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pre-school education + formal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Higher </a:t>
            </a: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school drop out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, especially for men eg Bulgaria and Romania (30%), Spain and Portugal also (20 and 26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14292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0" y="-225360"/>
            <a:ext cx="9144000" cy="1346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are key challeng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8"/>
          <p:cNvSpPr/>
          <p:nvPr/>
        </p:nvSpPr>
        <p:spPr>
          <a:xfrm>
            <a:off x="285840" y="1428840"/>
            <a:ext cx="885816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Low Access to Qualit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Low population density ie 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12.2% of rural population difficulties over tran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Barriers to health/social care: 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less infrastructure, distance and lower quality, healthcare worker shortages, lack of healthcare insurance, poor health litera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Poor housing and low supply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: worse conditions and higher deprivation – generally worse for young, unemployed, low skilled/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Limited Social Protection and Minimum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Aspect often overlooked, 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despite higher unemployment and inactivity</a:t>
            </a: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equal national access: 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with some poorest regions providing lowest levels and local variations. Issue of Agricultural subsidey eg PER 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Key </a:t>
            </a:r>
            <a:r>
              <a:rPr b="1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foundation </a:t>
            </a:r>
            <a:r>
              <a:rPr b="0" i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to enable people to participate in labour market and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-108000" y="-58680"/>
            <a:ext cx="9144000" cy="1346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an EU policy instruments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8"/>
          <p:cNvSpPr/>
          <p:nvPr/>
        </p:nvSpPr>
        <p:spPr>
          <a:xfrm>
            <a:off x="285840" y="1428840"/>
            <a:ext cx="8858160" cy="64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EU Social Policy: no specific focus on rural as opposed to urban poverty.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Spatial data and lower NUTS levels being only developed now. Urban not rural pov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Main policy instruments eg Europe 2020 strategy,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poverty targets and indicators are established for at risk of poverty and social exclusion as a whole</a:t>
            </a: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However, major impact of Europe 2020 goals and targets on ALL policy areas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eg EU funding eg European Social Fund (ESF), (FEAD), as well as ERDF and EAR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EU rural development policy (2014-2020) includes ‘promoting social inclusion,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poverty reduction as 1 in 6 prior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Primarily focused on a) diversifying /job creation b) Local development c) Information technologies also basic services and renewal and LEADER are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European Network of Rural Development (ENRD) 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has social inclusion as key working theme: 2014-2020: workshops/good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Commission says 15% of RDPs spent  on social inclusion/poverty reduction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14292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6"/>
          <p:cNvSpPr/>
          <p:nvPr/>
        </p:nvSpPr>
        <p:spPr>
          <a:xfrm>
            <a:off x="0" y="-225360"/>
            <a:ext cx="9144000" cy="1346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’s EAPN approa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285840" y="1428840"/>
            <a:ext cx="885816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Our starting point: need to develop solutions by talking to and engaging people in poverty in rural areas,  not just ‘data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Important to distinguish between challenges OF rural areas and people in poverty IN rural are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Poverty is primarily a structural not a spatial issue (Tovey 2009) –  issue of distribution/ redistribution linked to growing inequal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Causes of poverty : lack of access to rights, resources and services. Key importance of social policy – social protection and services. (EC/Thomas Bender 2009) and inclusive economic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How to mainstream this approach in rural areas? And use EU fund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14292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6"/>
          <p:cNvSpPr/>
          <p:nvPr/>
        </p:nvSpPr>
        <p:spPr>
          <a:xfrm>
            <a:off x="0" y="-225360"/>
            <a:ext cx="9144000" cy="1346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ome steps forwar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285840" y="1428840"/>
            <a:ext cx="88581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An integrated, bottom up, participative approach which tackles poverty OF Rural Areas and people in poverty IN rur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Need to combine structural changes to distribution/redistribution mechanisms (national/regional and local) with local initiati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Integrated rights-based antipoverty strategy – access to quality jobs, services and minimum income/social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Challenges of rural areas should use community-led development (CLLD), investing in new jobs, services an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Use EU funds (ESIF) to support integrated approa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Participation at the heart: empowering change, defining the challenges, proposing 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6"/>
          <p:cNvSpPr/>
          <p:nvPr/>
        </p:nvSpPr>
        <p:spPr>
          <a:xfrm>
            <a:off x="0" y="0"/>
            <a:ext cx="9144000" cy="1344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or Further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8"/>
          <p:cNvSpPr/>
          <p:nvPr/>
        </p:nvSpPr>
        <p:spPr>
          <a:xfrm>
            <a:off x="523800" y="1611360"/>
            <a:ext cx="7848720" cy="34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ff"/>
                </a:solidFill>
                <a:latin typeface="Calibri"/>
                <a:ea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Sian Jones, EAPN Policy Coordina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E-mail: </a:t>
            </a:r>
            <a:r>
              <a:rPr b="0" lang="fr-BE" sz="2800" spc="-1" strike="noStrike" u="sng">
                <a:solidFill>
                  <a:srgbClr val="009999"/>
                </a:solidFill>
                <a:uFillTx/>
                <a:latin typeface="Calibri"/>
                <a:ea typeface="Arial"/>
                <a:hlinkClick r:id="rId3"/>
              </a:rPr>
              <a:t>sian.jones@eapn.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Address: Boulevard Bischoffscheim 11, 1000 Bru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009999"/>
                </a:solidFill>
                <a:uFillTx/>
                <a:latin typeface="Calibri"/>
                <a:ea typeface="Arial"/>
                <a:hlinkClick r:id="rId4"/>
              </a:rPr>
              <a:t>Website: www.eapn.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6"/>
          <p:cNvSpPr/>
          <p:nvPr/>
        </p:nvSpPr>
        <p:spPr>
          <a:xfrm>
            <a:off x="0" y="0"/>
            <a:ext cx="9144000" cy="1344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ff"/>
                </a:solidFill>
                <a:latin typeface="Calibri"/>
                <a:ea typeface="Arial"/>
              </a:rPr>
              <a:t>EU Perspective – Rural Poverty and Soc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ff"/>
                </a:solidFill>
                <a:latin typeface="Calibri"/>
                <a:ea typeface="Arial"/>
              </a:rPr>
              <a:t>Ex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8"/>
          <p:cNvSpPr/>
          <p:nvPr/>
        </p:nvSpPr>
        <p:spPr>
          <a:xfrm>
            <a:off x="539640" y="162864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70c0"/>
                </a:solidFill>
                <a:latin typeface="Calibri"/>
                <a:ea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ing EAP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Rural Poverty – EU overview: data and policy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Key issues and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EAPN approach and way 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20520" y="1152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6"/>
          <p:cNvSpPr/>
          <p:nvPr/>
        </p:nvSpPr>
        <p:spPr>
          <a:xfrm>
            <a:off x="0" y="0"/>
            <a:ext cx="9144000" cy="1344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ffff"/>
                </a:solidFill>
                <a:latin typeface="Calibri"/>
                <a:ea typeface="Arial"/>
              </a:rPr>
              <a:t>Introducing EAP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8"/>
          <p:cNvSpPr/>
          <p:nvPr/>
        </p:nvSpPr>
        <p:spPr>
          <a:xfrm>
            <a:off x="539640" y="1628640"/>
            <a:ext cx="784872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etwork of NGO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committed to fight against poverty + social exclusion, with people in pover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tarted in 1990 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ey ac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poverty programmes and development of social OM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ceiv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inancial supp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from the European Commission (PROGRESS/now EaS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31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Networ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nd 16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uropean NGO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as members (10000+ organis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articipation of peop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with direct experience of poverty must be part of the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radicating poverty is possible – it’s a political cho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2286000" y="18590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20520" y="1152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"/>
          <p:cNvSpPr/>
          <p:nvPr/>
        </p:nvSpPr>
        <p:spPr>
          <a:xfrm>
            <a:off x="0" y="0"/>
            <a:ext cx="9144000" cy="1344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ffff"/>
                </a:solidFill>
                <a:latin typeface="Calibri"/>
                <a:ea typeface="Arial"/>
              </a:rPr>
              <a:t>EAPN’s approach to poverty (urban/rur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8"/>
          <p:cNvSpPr/>
          <p:nvPr/>
        </p:nvSpPr>
        <p:spPr>
          <a:xfrm>
            <a:off x="539640" y="1628640"/>
            <a:ext cx="78487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verty is a structural not an individual problem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on’t blame people facing poverty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ort people through an integrated, anti poverty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dequate Income through their lives - minimum income and social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ccessible and affordable public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clusive, quality job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inanced through tax jus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articipation is a pre-requisite for accessing other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You can’t solve poverty without reducing inequality 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airer taxes to finance universal welfare states and reduce income and wealth ga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286000" y="18590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20520" y="1152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6"/>
          <p:cNvSpPr/>
          <p:nvPr/>
        </p:nvSpPr>
        <p:spPr>
          <a:xfrm>
            <a:off x="0" y="-23760"/>
            <a:ext cx="9144000" cy="13446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ffff"/>
                </a:solidFill>
                <a:latin typeface="Calibri"/>
                <a:ea typeface="Arial"/>
              </a:rPr>
              <a:t>Poverty and Social Exclusion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39640" y="1628640"/>
            <a:ext cx="784872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eith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bsolute or extre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e a fixed poverty threshold ie euros per day. (US approa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lative pover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e capacity to participate in society on equal terms. (EU approac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cial Inclusion/Ex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“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process by which individuals are pushed to the edge of society and prevented from participating due to poverty, or opportunities, discrimination etc’ (Joint Report 200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U level poverty and or social exclu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ased on 3 indicators which offer a mi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t risk of poverty (60% of median disposable household in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vere material deprivation (5 of 9 indic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w work intensity ( % of jobless househol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286000" y="18590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6"/>
          <p:cNvSpPr/>
          <p:nvPr/>
        </p:nvSpPr>
        <p:spPr>
          <a:xfrm>
            <a:off x="-108000" y="-58680"/>
            <a:ext cx="9144000" cy="1346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’s happening to poverty in the E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8"/>
          <p:cNvSpPr/>
          <p:nvPr/>
        </p:nvSpPr>
        <p:spPr>
          <a:xfrm>
            <a:off x="285840" y="1428840"/>
            <a:ext cx="885816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119 million people facing poverty and social exclusion in EU, (23%) with 1 in 4 children in poverty (Eurostat Oct 20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Children face a higher risk than adults – (27.8%) compared to adults (25.4%) and more women than men(25.3% compared to 23.6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Big differences across the EU – the worst (BG, RO, HU, LV) ie 51.5% compared to FI, DK, SE, CZ  below 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Not all people face the same risk – ie  single parents (48.3%) large families (27.1%), children of migrants,  and Roma (8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Being unemployed is a risk, but jobs not an automatic route out of poverty: 9.5% of workers in-work poverty, 2/3 of poor families in the UK 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Social protection is essential to reduce poverty  (26.1% to 17.2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Austerity has hit children particularly hard – cuts to income support, child benefit, cuts to services and rising co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6"/>
          <p:cNvSpPr/>
          <p:nvPr/>
        </p:nvSpPr>
        <p:spPr>
          <a:xfrm>
            <a:off x="-108000" y="-58680"/>
            <a:ext cx="9144000" cy="1346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about rural pover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285840" y="1428840"/>
            <a:ext cx="88581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More rural than urban poverty: 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27.2% cf to 24.3% in urban areas. (Eurostat 201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Big differences in poverty across EU: 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highest poverty rates in Bulgaria and Romania (over 50%), then MT, EL, LV and HU (36.5%); compared to AT (14.1%), DK, CZ and NL (15.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Great risk of rural poverty where bigger rural populations ie rural population is more at risk in (17 countries), 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reverse is true where smaller rural population, more urban than rural poverty. (AT, DK, N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Poverty levels are higher in remote and sparsely populated areas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, particularly in  Southern and Eastern MS where poverty is associated with rural iso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6"/>
          <p:cNvSpPr/>
          <p:nvPr/>
        </p:nvSpPr>
        <p:spPr>
          <a:xfrm>
            <a:off x="-108000" y="-58680"/>
            <a:ext cx="9144000" cy="1346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in challenges facing rural are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8"/>
          <p:cNvSpPr/>
          <p:nvPr/>
        </p:nvSpPr>
        <p:spPr>
          <a:xfrm>
            <a:off x="285840" y="1428840"/>
            <a:ext cx="88581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4 main challenges identified: </a:t>
            </a:r>
            <a:r>
              <a:rPr b="0" i="1" lang="fr-BE" sz="1600" spc="-1" strike="noStrike">
                <a:solidFill>
                  <a:srgbClr val="000000"/>
                </a:solidFill>
                <a:latin typeface="Calibri"/>
                <a:ea typeface="Arial"/>
              </a:rPr>
              <a:t>EU report: Poverty and Social Exclusion in Rural Areas (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Demography 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(exodus and ageing popu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Remoteness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 (lack of infrastructure and basic servi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Education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 (lack of pre-schools and access to primary/ seconda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Labour markets 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(lower employment rates, persistent long-term unemployment and seasonal work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But missing Social Protection and Income support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Importance of distinguishing </a:t>
            </a:r>
            <a:r>
              <a:rPr b="0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between</a:t>
            </a:r>
            <a:r>
              <a:rPr b="1" i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 poverty OF rural areas and people living in poverty living IN rural ar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-108000" y="-58680"/>
            <a:ext cx="9144000" cy="13460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grou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8"/>
          <p:cNvSpPr/>
          <p:nvPr/>
        </p:nvSpPr>
        <p:spPr>
          <a:xfrm>
            <a:off x="285840" y="1428840"/>
            <a:ext cx="8858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179280" y="1428840"/>
            <a:ext cx="667872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Social exclusion and multiple dis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Women, single parents, young people –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particularly in relation to access to quality jobs and social protection, but also childcare, housing, health, education and other servi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Older and disabled people,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in relation to accessing health care, adequate transport as well as employment/trai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Migrants: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often drawn by low paid temporary, precarious and seasonal jobs, facing challenges to access quality education, health and other servic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U currently faced particularly with refugee crisis.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Re-location of migrants to ‘rural areas as response to demographic crisis eg Sw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Roma: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  <a:ea typeface="Arial"/>
              </a:rPr>
              <a:t>Recent FRA study – 90% of Roma in poverty – face exclusion from education, labour market, health care and hou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2:53:24Z</dcterms:created>
  <dc:creator>leticia</dc:creator>
  <dc:description/>
  <dc:language>en-US</dc:language>
  <cp:lastModifiedBy>Sian</cp:lastModifiedBy>
  <cp:lastPrinted>2015-04-20T12:14:12Z</cp:lastPrinted>
  <dcterms:modified xsi:type="dcterms:W3CDTF">2017-03-13T10:13:43Z</dcterms:modified>
  <cp:revision>195</cp:revision>
  <dc:subject/>
  <dc:title>Slide 1</dc:title>
</cp:coreProperties>
</file>